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647-4455-4E71-8EF2-2854F67F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39B-6208-46A2-9E09-FDCF117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CD5-4086-4662-B751-523EC55B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E11-23C0-433D-A00A-97F2B093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6D6-6837-49A4-862C-0B90DC45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2FE-D010-4F54-B5AE-7E60E3C4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9A5-C538-4513-B291-717B24CF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F94-290F-463D-8172-C5C64AD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AF1-6045-46F0-BF93-2E08D59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2BA-E5BC-4AE8-9AD2-B6AC6F0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DCE-7EF9-4D58-BDEC-64A90F73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60E-7D7A-4256-B303-00E8306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4AEB-EB33-473D-AC12-BA004B50D3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VJET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Kako se rasprostire svjetl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to se dogodi i ako tijelo osvjetlje dvije baterijske svjetilj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sjena i polusjena 800.jpg"/>
          <p:cNvPicPr/>
          <p:nvPr/>
        </p:nvPicPr>
        <p:blipFill>
          <a:blip r:embed="rId1"/>
          <a:stretch/>
        </p:blipFill>
        <p:spPr>
          <a:xfrm>
            <a:off x="1258920" y="2637000"/>
            <a:ext cx="6400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MRČINA MJESE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pomrčina mjesecay 2.jpg"/>
          <p:cNvPicPr/>
          <p:nvPr/>
        </p:nvPicPr>
        <p:blipFill>
          <a:blip r:embed="rId1"/>
          <a:stretch/>
        </p:blipFill>
        <p:spPr>
          <a:xfrm>
            <a:off x="531720" y="1581120"/>
            <a:ext cx="8136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MRČINA SUN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pomrcina sunca - 640.jpg"/>
          <p:cNvPicPr/>
          <p:nvPr/>
        </p:nvPicPr>
        <p:blipFill>
          <a:blip r:embed="rId1"/>
          <a:srcRect l="0" t="2369" r="0" b="2369"/>
          <a:stretch/>
        </p:blipFill>
        <p:spPr>
          <a:xfrm>
            <a:off x="507960" y="1569960"/>
            <a:ext cx="812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oneminuteastronomer.com/wp-content/uploads/2010/07/solar-eclipse.jpg"/>
          <p:cNvPicPr/>
          <p:nvPr/>
        </p:nvPicPr>
        <p:blipFill>
          <a:blip r:embed="rId1"/>
          <a:stretch/>
        </p:blipFill>
        <p:spPr>
          <a:xfrm>
            <a:off x="395280" y="1484280"/>
            <a:ext cx="465948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www.omega-level.net/wp-content/uploads/2011/01/Solar-Eclipse-Earth-Stylee.jpg"/>
          <p:cNvPicPr/>
          <p:nvPr/>
        </p:nvPicPr>
        <p:blipFill>
          <a:blip r:embed="rId2"/>
          <a:stretch/>
        </p:blipFill>
        <p:spPr>
          <a:xfrm>
            <a:off x="4822920" y="256536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U vakuumu i istovrsnom sredstvu svjetlost se širi 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pravocrtno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a je brzina svjetlos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zina svjetl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vakuumu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najveća je brzin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rena u prirodi i označava se sa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je ujedno i brzina svih elektromagnetskih valova u vaku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zina svjetl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najveća moguća brzina u svemiru i iznosi 300 000 km/s tj. 300 000 000 m/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tlosni izvori: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marni izvori svjetl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mi stvaraju svjetlost     (npr. Sunce, zvijezde, lava, plamen, krijesnice, žarulje, neonske cijevi, laseri, 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ekundarni izvori svjetl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amo odbijaju svjetlost koja iz drugog izvora padne na njih (npr. Mjesec, zrcalo ili mačje oči na bicikl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mjetne izvore svjetlost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izveli su ljudi (npr. svijeće, žarulje, las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rasprostiranje svjet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dimo li svjetlost ili osvjetljeni z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vjetlosni snop učiniti vidljiv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bi se dogodilo da između izvora i zida stavimo karton s malim otvo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zraka svjetlosti 3.wmv" descr=""/>
          <p:cNvPicPr/>
          <p:nvPr/>
        </p:nvPicPr>
        <p:blipFill>
          <a:blip r:embed="rId1"/>
          <a:stretch/>
        </p:blipFill>
        <p:spPr>
          <a:xfrm>
            <a:off x="1427040" y="1655640"/>
            <a:ext cx="609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rlo uzak i intenzivan snop svjetlosti nazivamo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vjetlosna zrak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Svjetlosna zraka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je polupravac kojim prikazujemo smjer rasprostiranja svjetlos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s: vidimo li izvor kroz savijenu cije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ašto izvor svjetlosti ne vidimo kada je cijev bila savinu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vjetlost se rasprostire pravocrtn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su li predmeti jednako osvijetljeni sa svih stran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lazi li svjetlost kroz neprozirna tijela ili ih zaobilaz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jen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prostor iza osvijetljenog predmeta u koji ne dopire svjetlost direktno iz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nastaje sje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tlost se iz izvora širi na sve strane, no nama su zanimljive samo zrake svjetlosti koje prolaze uz rub prepreke, jer one određuju oblik i veličinu sj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270.tif"/>
          <p:cNvPicPr/>
          <p:nvPr/>
        </p:nvPicPr>
        <p:blipFill>
          <a:blip r:embed="rId3"/>
          <a:stretch/>
        </p:blipFill>
        <p:spPr>
          <a:xfrm>
            <a:off x="2050920" y="4149720"/>
            <a:ext cx="5069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125360" y="5000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Nastanak sje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nastanak sjene.wmv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1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matrate li na zidu sjenu jabuke osvijetljene žaruljom, ona nije oštra jer se uz nju pojavljuje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usjena. Objasni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271.tif"/>
          <p:cNvPicPr/>
          <p:nvPr/>
        </p:nvPicPr>
        <p:blipFill>
          <a:blip r:embed="rId2"/>
          <a:stretch/>
        </p:blipFill>
        <p:spPr>
          <a:xfrm>
            <a:off x="2484360" y="3789360"/>
            <a:ext cx="4025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24:20Z</dcterms:created>
  <dc:creator>Zdenka</dc:creator>
  <dc:description/>
  <dc:language>en-US</dc:language>
  <cp:lastModifiedBy>Zdenko</cp:lastModifiedBy>
  <dcterms:modified xsi:type="dcterms:W3CDTF">2014-07-18T09:15:10Z</dcterms:modified>
  <cp:revision>58</cp:revision>
  <dc:subject/>
  <dc:title>Svjetlost</dc:title>
</cp:coreProperties>
</file>